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969A-03E8-4671-9C04-FD9284D9A190}" type="slidenum"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a square from these toothpic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a square from these toothpick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hree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hree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pig look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pig look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wo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wo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fancy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fancy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ZERO moves! Just turn your head to the side 12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ZERO moves! Just turn your head to the side 120 degree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sticks to create 4 equilateral triangles of equa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move sticks to create 4 equilateral triangles of equal size.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total moves!!!  Now you try number 2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total moves!!!  Now you try number 2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fish swim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fish swim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E54-DDA2-4961-923E-3168954F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AC0-760C-421B-A48D-31506350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A57-4458-4D54-873A-D06CB533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6D2-1EE8-409E-8224-C8E90EFC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E06-CDF9-4F56-8618-93BAF106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C27-0041-4157-937C-819277DE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8B6-7E8A-4877-BABA-258B59EA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F864-40E5-41FA-BF10-4FD523BC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35B-03F9-4A93-B119-9033C2FF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CFC-22D3-4E06-BF2F-D6F98BEB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055-ADCB-4C7B-A57D-110800E3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F5B-8966-4122-9CC5-D074FF50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9A7B-96E8-4BAE-8478-EF3A52C59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xample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920" y="1336680"/>
            <a:ext cx="190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ow many moves to make a square from these toothpick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Line 12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4b11"/>
                </a:solidFill>
                <a:latin typeface="Comic Sans MS"/>
              </a:rPr>
              <a:t>Done in three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5334120" y="3733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5433840" y="4170240"/>
            <a:ext cx="357480" cy="14940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3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8" name="Line 15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Line 16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85800" y="1447920"/>
            <a:ext cx="146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make the pig look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3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2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4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7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9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5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6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0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3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4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8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9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3" name="Oval 15"/>
          <p:cNvSpPr/>
          <p:nvPr/>
        </p:nvSpPr>
        <p:spPr>
          <a:xfrm>
            <a:off x="6400800" y="3429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4" name="Freeform 16"/>
          <p:cNvSpPr/>
          <p:nvPr/>
        </p:nvSpPr>
        <p:spPr>
          <a:xfrm>
            <a:off x="6400800" y="3886200"/>
            <a:ext cx="357120" cy="9684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7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533520" y="1447920"/>
            <a:ext cx="161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How many moves to get the cherry outside of the old-fashioned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Line 1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0" name="Line 1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1" name="Picture 1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3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7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3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9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05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7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1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one in two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7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9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533520" y="1447920"/>
            <a:ext cx="161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get the cherry outside of the fancy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3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676520" y="457200"/>
            <a:ext cx="6400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ne in ZERO moves! Just turn your head to the side 120 degrees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8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28600" y="2057400"/>
            <a:ext cx="192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Remove sticks to create 4 equilateral triangles of equal siz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7" name="Line 12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9" name="Line 14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0" name="Line 15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1" name="Line 16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2" name="Line 17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3" name="Line 18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Line 19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5" name="Line 20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Line 21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9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1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2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3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4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7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9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0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2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4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9" name="Line 7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0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1" name="Line 19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3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5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6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8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2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3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4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5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6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1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2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9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0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1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2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Line 19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6" name="Line 13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6554160" y="243828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ne in 2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s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0" name="Line 17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one in 2 total moves!!!  Now you try number 2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36576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 flipV="1">
            <a:off x="365760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441972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41972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441972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41972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518148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518148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746280" y="1336680"/>
            <a:ext cx="146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4b11"/>
                </a:solidFill>
                <a:latin typeface="Comic Sans MS"/>
              </a:rPr>
              <a:t>How many moves to make the fish swim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7:07:42Z</dcterms:created>
  <dc:creator>DIST225</dc:creator>
  <dc:description/>
  <dc:language>en-US</dc:language>
  <cp:lastModifiedBy>RomaK</cp:lastModifiedBy>
  <dcterms:modified xsi:type="dcterms:W3CDTF">2015-09-04T09:22:38Z</dcterms:modified>
  <cp:revision>8</cp:revision>
  <dc:subject/>
  <dc:title>Problem Number One: Example </dc:title>
</cp:coreProperties>
</file>